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1561-C5BB-46B8-984A-5DE80A453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109080"/>
            <a:ext cx="7470720" cy="10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711D-89E1-4EF7-B145-79EA0E09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600" y="109080"/>
            <a:ext cx="7470720" cy="10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80FD-7F61-451A-BBAC-FA5D2BE2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109080"/>
            <a:ext cx="7470720" cy="10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AF6C-51FE-431B-A0D1-FF2D003E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109080"/>
            <a:ext cx="7470720" cy="10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794A-AEFA-4583-A9D6-1AEF3FE9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109080"/>
            <a:ext cx="7470720" cy="10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BCF9-2319-4D66-86CA-13DE3F8E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109080"/>
            <a:ext cx="7470720" cy="10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CB3A-BBFC-4EC7-8A61-3584D25E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600" y="109080"/>
            <a:ext cx="7470720" cy="10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C454-4146-43F4-B349-AFBF1A3D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600" y="109080"/>
            <a:ext cx="7470720" cy="478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D614-207F-4D55-9311-79A065A5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109080"/>
            <a:ext cx="7470720" cy="10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A381-9C56-4135-A25B-3D815A16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109080"/>
            <a:ext cx="7470720" cy="10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F2C8-2209-4E97-91EF-1D83AB80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109080"/>
            <a:ext cx="7470720" cy="10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8C21-6A2D-4626-9831-3A020728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600" y="109080"/>
            <a:ext cx="7470720" cy="10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63640" indent="-2872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215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27280" indent="-2160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158920" indent="-215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158920" indent="-215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158920" indent="-215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40E36-C9FD-443B-A524-21BEB57A8F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14240" y="109080"/>
            <a:ext cx="7472520" cy="10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RoboMin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00680" y="4716360"/>
            <a:ext cx="2495880" cy="24955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706400"/>
            <a:ext cx="907236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A first impression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rogramming with Robo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7086600"/>
            <a:ext cx="40356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vid Halma, University of Amsterd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14240" y="154080"/>
            <a:ext cx="7472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Extra instruc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Using extra instructions results in less typ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Use for instance : </a:t>
            </a:r>
            <a:br>
              <a:rPr sz="3200"/>
            </a:br>
            <a:r>
              <a:rPr b="1" lang="en-GB" sz="3200" spc="-1" strike="noStrike">
                <a:solidFill>
                  <a:srgbClr val="666699"/>
                </a:solidFill>
                <a:latin typeface="Courier New"/>
              </a:rPr>
              <a:t>repeat(</a:t>
            </a:r>
            <a:r>
              <a:rPr b="1" i="1" lang="en-GB" sz="3200" spc="-1" strike="noStrike">
                <a:solidFill>
                  <a:srgbClr val="9999cc"/>
                </a:solidFill>
                <a:latin typeface="Courier New"/>
              </a:rPr>
              <a:t>number</a:t>
            </a:r>
            <a:r>
              <a:rPr b="1" lang="en-GB" sz="3200" spc="-1" strike="noStrike">
                <a:solidFill>
                  <a:srgbClr val="666699"/>
                </a:solidFill>
                <a:latin typeface="Courier New"/>
              </a:rPr>
              <a:t>){</a:t>
            </a:r>
            <a:r>
              <a:rPr b="1" i="1" lang="en-GB" sz="3200" spc="-1" strike="noStrike">
                <a:solidFill>
                  <a:srgbClr val="9999cc"/>
                </a:solidFill>
                <a:latin typeface="Courier New"/>
              </a:rPr>
              <a:t>instructions</a:t>
            </a:r>
            <a:r>
              <a:rPr b="1" lang="en-GB" sz="3200" spc="-1" strike="noStrike">
                <a:solidFill>
                  <a:srgbClr val="666699"/>
                </a:solidFill>
                <a:latin typeface="Courier New"/>
              </a:rPr>
              <a:t>}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4343400"/>
            <a:ext cx="3200400" cy="2514600"/>
          </a:xfrm>
          <a:prstGeom prst="roundRect">
            <a:avLst>
              <a:gd name="adj" fmla="val 60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4487760"/>
            <a:ext cx="3430440" cy="23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repeat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orwar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righ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4343400"/>
            <a:ext cx="2971800" cy="2286000"/>
          </a:xfrm>
          <a:prstGeom prst="wedgeRoundRectCallout">
            <a:avLst>
              <a:gd name="adj1" fmla="val -75407"/>
              <a:gd name="adj2" fmla="val -298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e squ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ss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6907320"/>
            <a:ext cx="9558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666699"/>
                </a:solidFill>
                <a:latin typeface="Arial"/>
              </a:rPr>
              <a:t>Scrip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0840" y="3909960"/>
            <a:ext cx="2219040" cy="2959200"/>
          </a:xfrm>
          <a:custGeom>
            <a:avLst/>
            <a:gdLst>
              <a:gd name="textAreaLeft" fmla="*/ 360 w 2219040"/>
              <a:gd name="textAreaRight" fmla="*/ 2218680 w 2219040"/>
              <a:gd name="textAreaTop" fmla="*/ 360 h 2959200"/>
              <a:gd name="textAreaBottom" fmla="*/ 2958840 h 2959200"/>
            </a:gdLst>
            <a:ahLst/>
            <a:rect l="textAreaLeft" t="textAreaTop" r="textAreaRight" b="textAreaBottom"/>
            <a:pathLst>
              <a:path w="21600" h="28804">
                <a:moveTo>
                  <a:pt x="15" y="0"/>
                </a:moveTo>
                <a:arcTo wR="15" hR="15" stAng="16200000" swAng="-5400000"/>
                <a:lnTo>
                  <a:pt x="0" y="28789"/>
                </a:lnTo>
                <a:arcTo wR="15" hR="15" stAng="10800000" swAng="-5400000"/>
                <a:lnTo>
                  <a:pt x="21585" y="28804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4019400"/>
            <a:ext cx="256068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forward(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righ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forward(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righ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forward(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righ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forward(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righ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0840" y="6953400"/>
            <a:ext cx="10429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666699"/>
                </a:solidFill>
                <a:latin typeface="Arial"/>
              </a:rPr>
              <a:t>Scrip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14240" y="154080"/>
            <a:ext cx="7472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Question: Two squa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ow can you make the robot drive two squar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3200400"/>
            <a:ext cx="3200400" cy="2514600"/>
          </a:xfrm>
          <a:prstGeom prst="roundRect">
            <a:avLst>
              <a:gd name="adj" fmla="val 60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3344760"/>
            <a:ext cx="3430440" cy="23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repeat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orwar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righ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67120" y="5791320"/>
            <a:ext cx="9554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666699"/>
                </a:solidFill>
                <a:latin typeface="Arial"/>
              </a:rPr>
              <a:t>Scrip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154080"/>
            <a:ext cx="7472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swer: Two Squa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t can be done in several way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563920"/>
            <a:ext cx="3200400" cy="2514600"/>
          </a:xfrm>
          <a:prstGeom prst="roundRect">
            <a:avLst>
              <a:gd name="adj" fmla="val 60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2708280"/>
            <a:ext cx="3430440" cy="23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repeat(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orwar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righ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2563920"/>
            <a:ext cx="3429000" cy="3657600"/>
          </a:xfrm>
          <a:custGeom>
            <a:avLst/>
            <a:gdLst>
              <a:gd name="textAreaLeft" fmla="*/ 360 w 3429000"/>
              <a:gd name="textAreaRight" fmla="*/ 3428640 w 3429000"/>
              <a:gd name="textAreaTop" fmla="*/ 360 h 3657600"/>
              <a:gd name="textAreaBottom" fmla="*/ 3657240 h 3657600"/>
            </a:gdLst>
            <a:ahLst/>
            <a:rect l="textAreaLeft" t="textAreaTop" r="textAreaRight" b="textAreaBottom"/>
            <a:pathLst>
              <a:path w="21600" h="23040">
                <a:moveTo>
                  <a:pt x="10" y="0"/>
                </a:moveTo>
                <a:arcTo wR="10" hR="10" stAng="16200000" swAng="-5400000"/>
                <a:lnTo>
                  <a:pt x="0" y="23030"/>
                </a:lnTo>
                <a:arcTo wR="10" hR="10" stAng="10800000" swAng="-5400000"/>
                <a:lnTo>
                  <a:pt x="21590" y="23040"/>
                </a:lnTo>
                <a:arcTo wR="10" hR="10" stAng="5400000" swAng="-5400000"/>
                <a:lnTo>
                  <a:pt x="21600" y="10"/>
                </a:lnTo>
                <a:arcTo wR="10" hR="10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2708280"/>
            <a:ext cx="3430440" cy="33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repeat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repeat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orwar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righ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6629400"/>
            <a:ext cx="7551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666699"/>
                </a:solidFill>
                <a:latin typeface="Arial"/>
              </a:rPr>
              <a:t>Less boring than 16 mouseclicks in the remote contro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5143680"/>
            <a:ext cx="9558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666699"/>
                </a:solidFill>
                <a:latin typeface="Arial"/>
              </a:rPr>
              <a:t>Scrip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59600" y="6283440"/>
            <a:ext cx="9558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666699"/>
                </a:solidFill>
                <a:latin typeface="Arial"/>
              </a:rPr>
              <a:t>Scrip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14240" y="154080"/>
            <a:ext cx="7472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Programming languag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ow do you know what instructions you're allowed to u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ike: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ward(1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left(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repea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You don't know in advance. It depends on the rules of the programming langua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You'll have to read the documentation to find this out. There are many different programming languag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14240" y="154080"/>
            <a:ext cx="7472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is is the end of this 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pen the example scripts to explore the possibilit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ercise: program a “dance” for the robot with repeat-loops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ip: Use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leftIsClear()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ightIsClear()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to move the head of the robo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240" y="109080"/>
            <a:ext cx="7472520" cy="10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828440"/>
            <a:ext cx="907236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achines and Instr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rit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27000" y="3379680"/>
            <a:ext cx="4759560" cy="34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4240" y="154080"/>
            <a:ext cx="7472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Instruc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97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f you want to make a machine, computer or robot work, you have to give it </a:t>
            </a:r>
            <a:r>
              <a:rPr b="0" i="1" lang="en-GB" sz="3200" spc="-1" strike="noStrike">
                <a:solidFill>
                  <a:srgbClr val="000000"/>
                </a:solidFill>
                <a:latin typeface="Tahoma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structions differ from machine to machine and can be anything. For 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Video recorder: </a:t>
            </a:r>
            <a:r>
              <a:rPr b="0" lang="en-GB" sz="2800" spc="-1" strike="noStrike">
                <a:solidFill>
                  <a:srgbClr val="666699"/>
                </a:solidFill>
                <a:latin typeface="Tahoma"/>
              </a:rPr>
              <a:t>recor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800" spc="-1" strike="noStrike">
                <a:solidFill>
                  <a:srgbClr val="666699"/>
                </a:solidFill>
                <a:latin typeface="Tahoma"/>
              </a:rPr>
              <a:t>play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800" spc="-1" strike="noStrike">
                <a:solidFill>
                  <a:srgbClr val="666699"/>
                </a:solidFill>
                <a:latin typeface="Tahoma"/>
              </a:rPr>
              <a:t>pa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eb browser: </a:t>
            </a:r>
            <a:r>
              <a:rPr b="0" lang="en-GB" sz="2800" spc="-1" strike="noStrike">
                <a:solidFill>
                  <a:srgbClr val="666699"/>
                </a:solidFill>
                <a:latin typeface="Tahoma"/>
              </a:rPr>
              <a:t>go to sit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800" spc="-1" strike="noStrike">
                <a:solidFill>
                  <a:srgbClr val="666699"/>
                </a:solidFill>
                <a:latin typeface="Tahoma"/>
              </a:rPr>
              <a:t>go back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800" spc="-1" strike="noStrike">
                <a:solidFill>
                  <a:srgbClr val="666699"/>
                </a:solidFill>
                <a:latin typeface="Tahoma"/>
              </a:rPr>
              <a:t>print p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Question: What could be instructions for an automatic pilo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240" y="109080"/>
            <a:ext cx="7472520" cy="10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Basic instruc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3549600"/>
            <a:ext cx="8893080" cy="3233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97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very machine has a set of basic instructions: actions it can perform direct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e robot we're going to program has basic instructions to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6485040"/>
            <a:ext cx="1050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666699"/>
                </a:solidFill>
                <a:latin typeface="Arial"/>
              </a:rPr>
              <a:t>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43360" y="6485040"/>
            <a:ext cx="8143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666699"/>
                </a:solidFill>
                <a:latin typeface="Arial"/>
              </a:rPr>
              <a:t>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10400" y="6485040"/>
            <a:ext cx="9921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666699"/>
                </a:solidFill>
                <a:latin typeface="Arial"/>
              </a:rPr>
              <a:t>P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31080" y="6485040"/>
            <a:ext cx="9716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666699"/>
                </a:solidFill>
                <a:latin typeface="Arial"/>
              </a:rPr>
              <a:t>Gr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14240" y="154080"/>
            <a:ext cx="7472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Giving instruc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4121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structions can be given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essing a butt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ragging your mo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riting commando'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14240" y="109080"/>
            <a:ext cx="7472520" cy="10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Instructions with a mou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5440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pen the remote control in RoboMind </a:t>
            </a:r>
            <a:br>
              <a:rPr sz="3200"/>
            </a:br>
            <a:r>
              <a:rPr b="0" lang="en-GB" sz="2400" spc="-1" strike="noStrike">
                <a:solidFill>
                  <a:srgbClr val="666699"/>
                </a:solidFill>
                <a:latin typeface="Tahoma"/>
              </a:rPr>
              <a:t>(Execute &gt; Remote Control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lick the buttons to make the robot 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ercise: Try to make the robot drive a small squ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19840" y="1600200"/>
            <a:ext cx="2781360" cy="51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154080"/>
            <a:ext cx="7472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Writing instruc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You can also write instr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oving can be done with the commands: </a:t>
            </a:r>
            <a:br>
              <a:rPr sz="3200"/>
            </a:b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forward(1), backward(1), left(), right(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743200" y="3657600"/>
            <a:ext cx="4343400" cy="3200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3886200"/>
            <a:ext cx="2057400" cy="1143000"/>
          </a:xfrm>
          <a:prstGeom prst="wedgeRoundRectCallout">
            <a:avLst>
              <a:gd name="adj1" fmla="val 100013"/>
              <a:gd name="adj2" fmla="val 43828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Write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618160"/>
            <a:ext cx="1828800" cy="1143000"/>
          </a:xfrm>
          <a:prstGeom prst="wedgeRoundRectCallout">
            <a:avLst>
              <a:gd name="adj1" fmla="val 79694"/>
              <a:gd name="adj2" fmla="val 11208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Click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43800" y="4464000"/>
            <a:ext cx="1828800" cy="1143000"/>
          </a:xfrm>
          <a:prstGeom prst="wedgeRoundRectCallout">
            <a:avLst>
              <a:gd name="adj1" fmla="val -103254"/>
              <a:gd name="adj2" fmla="val 2203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See the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14240" y="109080"/>
            <a:ext cx="7472520" cy="10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Example: Squar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rite the following movement instruc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2514600"/>
            <a:ext cx="2971800" cy="3886200"/>
          </a:xfrm>
          <a:custGeom>
            <a:avLst/>
            <a:gdLst>
              <a:gd name="textAreaLeft" fmla="*/ 360 w 2971800"/>
              <a:gd name="textAreaRight" fmla="*/ 2971440 w 2971800"/>
              <a:gd name="textAreaTop" fmla="*/ 360 h 3886200"/>
              <a:gd name="textAreaBottom" fmla="*/ 3885840 h 3886200"/>
            </a:gdLst>
            <a:ahLst/>
            <a:rect l="textAreaLeft" t="textAreaTop" r="textAreaRight" b="textAreaBottom"/>
            <a:pathLst>
              <a:path w="21600" h="28245">
                <a:moveTo>
                  <a:pt x="11" y="0"/>
                </a:moveTo>
                <a:arcTo wR="11" hR="11" stAng="16200000" swAng="-5400000"/>
                <a:lnTo>
                  <a:pt x="0" y="28234"/>
                </a:lnTo>
                <a:arcTo wR="11" hR="11" stAng="10800000" swAng="-5400000"/>
                <a:lnTo>
                  <a:pt x="21589" y="28245"/>
                </a:lnTo>
                <a:arcTo wR="11" hR="11" stAng="5400000" swAng="-5400000"/>
                <a:lnTo>
                  <a:pt x="21600" y="11"/>
                </a:lnTo>
                <a:arcTo wR="11" hR="11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2658960"/>
            <a:ext cx="3430440" cy="35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orwar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righ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orwar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righ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orwar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righ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orwar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righ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486400" y="4456080"/>
            <a:ext cx="1424160" cy="1487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V="1">
            <a:off x="6172200" y="3427560"/>
            <a:ext cx="1440" cy="917280"/>
          </a:xfrm>
          <a:prstGeom prst="line">
            <a:avLst/>
          </a:prstGeom>
          <a:ln w="91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00800" y="3200400"/>
            <a:ext cx="1828800" cy="1440"/>
          </a:xfrm>
          <a:prstGeom prst="line">
            <a:avLst/>
          </a:prstGeom>
          <a:ln w="91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481960" y="3429000"/>
            <a:ext cx="1800" cy="1828800"/>
          </a:xfrm>
          <a:prstGeom prst="line">
            <a:avLst/>
          </a:prstGeom>
          <a:ln w="91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7084800" y="5486400"/>
            <a:ext cx="1145880" cy="1440"/>
          </a:xfrm>
          <a:prstGeom prst="line">
            <a:avLst/>
          </a:prstGeom>
          <a:ln w="91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3600" y="2971800"/>
            <a:ext cx="457200" cy="457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47240" y="2971800"/>
            <a:ext cx="457200" cy="457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47240" y="5240160"/>
            <a:ext cx="457200" cy="457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6512040"/>
            <a:ext cx="9558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666699"/>
                </a:solidFill>
                <a:latin typeface="Arial"/>
              </a:rPr>
              <a:t>Scrip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4240" y="154080"/>
            <a:ext cx="7472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Writing seems slow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riting instructions seems to be more work than using the remot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owever, it is more convenient if you want to automate the process of giving instr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You can execute the instructions more than once, without writing the script again or clicking the buttons on the remot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ecution goes faster. You don't have to find the buttons for giving instruc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vid Halma</dc:creator>
  <dc:description/>
  <dc:language>en-US</dc:language>
  <cp:lastModifiedBy>Arvid Halma</cp:lastModifiedBy>
  <cp:revision>0</cp:revision>
  <dc:subject/>
  <dc:title/>
</cp:coreProperties>
</file>